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A6A-3081-421E-94E2-1FEAC2A1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1D8-DD01-47A2-ADE7-364F776D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8A0D7-F5A4-49AB-81E1-C8159F71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318E7-9C1C-4746-87A9-BA02B511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438CD-6EAC-4AD1-96F0-4FBE9B0C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22036-4A50-454D-91E4-2AA191AD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B1B59-D700-4BD7-A829-D0F3094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E990A-EA09-4FA7-A29D-4B9EE7DE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E22CD-65D2-4610-BB9E-44FB415C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08113-0587-4FA4-884B-F11FD725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B5D22-7766-41EC-A1AC-CD608CE6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CAD3E-051D-415C-8FE7-94BD6587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D82-6301-4C35-A6CF-449F25C4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C1D83-BDEE-4270-953A-CB6C16E0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A71F6-AE05-45E7-886B-96EF36BA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97A83-5E33-47EA-BEC0-E778A3BB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15EF1-BC2A-457B-AEE7-12211407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8314A-C20C-4218-8AE1-17675B4A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6FF3B-6CBD-41AB-8320-E7A90281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71B71-3AAB-4E39-BE7F-C9237592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7EB23-462E-4A03-B1DB-A9AF3877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F83CE-F504-4308-B613-ABAF937B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FC1DC-4DBA-4D84-9F89-6FB3806F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268-C553-40E0-A3AC-EAB31474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B96BE-F6D6-4DF9-9B26-D079D462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04459-DEB4-4908-AC4B-F3DD89BD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9E5C2-AB2E-4AFF-B136-397AECF1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9F4FE-7544-4CC4-935D-7FB97C46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61F89-3C53-46D7-AD3A-29CC2E68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F651A-6C75-45A7-BC3F-00838116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63D68-22CD-4302-9B73-942D9A37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E4E7B-583E-4BF0-AEAB-88B38EBE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FA7F2-FBA4-415C-80F9-2FEAA35A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6D3A2-52D9-4CE2-93B9-58674561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088-5E8C-45CD-960B-A7D8168A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C75F2-F443-47AE-A9B8-BBC5B3CB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33265-ED56-4E23-9041-9C73D9EF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7AEFF-9997-46AF-9F1F-D2791602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4BE6E-D930-44AD-B22E-81A76899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408A1-65CF-4D90-9556-9BB523AF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926F4-6060-4921-A1DF-22C9FD1C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3FFAF-6670-4A3C-9549-18AA7236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8B725-7777-4DFB-81AF-F2D5CC75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19D39-209B-4964-9EF8-5E55CAF0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48A94-53DB-485D-8047-09C7B13A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E6F4-74F7-4773-A0C2-7BFBD114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202B5-A900-4F02-B401-84D5F314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4A6E0-A9A8-4CF9-80C0-ACF7E9A5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57158-1480-414E-9541-E1426823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A5BA9-C892-4A15-9490-FB0B0DB6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833B8-9B78-4F3B-89CC-AA0D5B1C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E8F79-81DF-45F3-B5E6-BF7A898A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3EB8C-F4CB-4DA7-A284-45138E60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9F8E4-AF4F-4B21-BED5-C42340D5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680B3-472E-4468-9BD2-5ED220E1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2D524-DF30-41CA-BE0B-FF5CFF7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F6B6-E8E4-4E02-AD75-E7AE27D7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6573B-795F-4981-ABEB-F027E5CC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358B4-1A79-414B-9860-14FA3A0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2729B-D46F-483B-8A7E-AB9FF0E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233DC-EE5C-4331-BE4A-DA39AED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4AA0A-13E3-43C6-A6B6-6B5ECF26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A27BA-5BDF-4061-8BC5-02998F33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C79B4-3897-4E0F-BC72-D4DBAFE6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083A5-081D-4647-9D96-40F8DB1E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2B7FA-9582-4ECF-ABD5-B942D15A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DB7F7-8F77-48C7-BAF3-F7715448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EBF0-F637-44D6-A027-2F633FE6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0D1DE-4DB9-4EDB-83D5-B12E5B43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C07EF-1993-4685-A0AE-A6529CCE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D5123-6DA6-4921-8D57-EE3EFD5F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948C7-473B-4658-B58A-0037F735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BF0F2-3337-4F30-A6D3-9F66FAA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4BE6B-7543-4B6F-BE90-1ABFC252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C653F-95D0-443D-81B1-D3FAFCBA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5B2CB-9810-4779-87B9-53323CFA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F6C1E-5101-4356-A24B-EE25A26A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6D0BE-2D51-4FAC-A2A5-4E493BCF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F6C6-3070-4F7D-955F-B4670B24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A8FD0-16F0-4857-832D-49B614C1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F7135-8641-4B11-B467-33F074F4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4AB83-4B07-4C88-AFDA-1F4ED2CB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CBDC8-7C1A-4DED-B030-FB9AF881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29A08-D05A-45FF-A7C7-057B5AAC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DE086-867E-4945-AD74-F582AFDD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3D1A4-B51C-4859-BB96-AC53C8E7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C585F-EC9C-468B-B70C-4EED597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E9739-3A54-4C33-BB1F-F0B06902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6E8D1-C708-45C5-8424-204C728D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2476-D7FF-4365-93B0-2E85BBC7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798C8-941D-413B-80D7-3F96F453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0DC37-A7DD-44E4-AFCC-E681C628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8599E-BDA8-4FCE-9A47-50A5D726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DDEAD-71BE-459A-8373-35B75A2E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CD2448-C1B5-498A-B812-6191D510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62CEA-C329-46A5-B58D-60C5819F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7F7CB-4F26-4BAF-9288-0163FFCA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777C0-BDB6-4C7D-9B74-D9E53131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7247B-F5BA-45D8-95A5-13304610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C0A8E-0FF8-41FD-9005-40B54991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D76A-E0B4-4F1F-9A68-6C0BDD3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F1944-D3DF-4BEE-8524-6BC6E29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7B3D3-2880-4596-BF27-5C837F70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1599E-7DA3-4C81-B2A5-B86868B2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C85CA-9F66-4FA9-A926-25F8FD49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E7C2E-AC8F-4FA0-B9D6-EBA3AF30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F8829C-EB92-447E-A886-861AC963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1DDA5-3F5E-43FA-B497-4E11B372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1F39B-12CA-4578-ABDA-7F6B6CEC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12192-9B50-472F-8001-55249D4C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6750D-AFFE-461F-BC0C-F2BBC1CA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A10-D352-4AF8-9AF0-8171ED34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2D46-8F34-4707-8B73-55D0649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8B943-A79D-4BBC-8BFA-78A61B01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9160A5-1D79-4445-BF82-77AFD97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0FEC4-DF9F-4299-8637-E1D7098E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FDCCB-34E4-4866-85B2-3923348A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A67B3-9F08-4131-8C12-78475A46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BE63A-128D-4C2B-8637-ADC16C18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E6716-2C44-4924-9109-F36E81B7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8FF11-6850-4BEF-9B9C-5CECCACD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C4524-8AB0-4F24-B678-89F113F2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56E1E-50ED-47AE-870A-32A1091F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4DB4-1CB8-45BC-9571-B16C61A9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CB876-D104-41BC-94AD-775F1C97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BBC8DF-2910-453B-A0B0-9747001F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9EE9A3-1E48-4A42-9D96-F52D5855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976BC-E59C-4CBF-98D7-E694177E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96699-56F4-4BCD-84C6-AB3EF219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7C444-0A61-4014-BF36-164AF069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AC522-8806-4A9E-B7E1-D0E112AA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40F15-E910-4F02-9AD8-84C71F33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7459D-CD55-4089-8F9C-EAEAA390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71A915-0ED3-4815-8CFF-E5D757D9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5F3-BD4E-4877-8360-99982143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11448-7B7E-4DD4-B482-5E9FE9C6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4C93E-0FC1-4023-9799-23BD07A0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23EB6-1E76-48FC-BE6D-BB5EA282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D30344-444A-48BE-B78D-820C7C3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67C822-18DA-427D-BB19-19AC0E0F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31A93A-1137-4A95-83AC-CB09FF96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6ACC0A-DD5D-486E-AA01-D8933BE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FA8D2-A435-46F9-8F2E-8C34A40A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2B4EC-0D46-4440-AFB3-6BD93CF0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7045A-C351-45B3-AB70-C5EE5A96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9301-2F56-48FC-9657-E3B42537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4EA1EC-72A0-48CA-AA74-69B6B0D5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2AFF9-57D0-4A0D-A819-62B58CE1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1A86D-4C4B-4DBB-BBFB-64ACEC65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F7747-1D4A-4E7E-9948-3A759611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40668-28B6-41ED-A32A-7AB81C78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4A7A5-6C53-4BBE-BC52-A7336ADD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9E5DB6-7F84-4BAD-967D-2D89740F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34E2B3-B0EF-48EB-95D8-9E57EBA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A01872-13B6-4446-91F6-D2D43064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3DD723-E90D-431C-8161-F1C9D809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3945-6F8A-484D-94FE-6E7B096A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6A4E0-ADD1-4761-BCB9-9C020E04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C1C96D-15A2-4ED8-983B-9715ED04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392F6-C671-4E41-8371-DB4579DE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4C7EE3-3EFC-4DB9-BBD2-372DEBE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3D4304-4B1D-44C9-8F7E-704B8BE4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0CA53-48D6-4279-90E5-34C01738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0AB34-C030-4F90-B83D-750A3838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5C2098-497C-426B-8E55-6098709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4CFB4-21E8-45B3-A530-E789F092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31DC39-869B-4DF5-A370-F35F6D6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4855-7C18-4CE1-8F7E-ACFA8247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A6CE9-A72C-402A-B2BF-16E1CB11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A124E6-AF89-4AEF-8C25-E1262FDF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D8D11-8FCD-4671-A006-580A84E3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9B55CE-1848-49E4-A77D-33820DC7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F27E36-E292-4FA6-B467-194965C7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7D1EDB-189D-44C5-AB73-CFB9FD42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F04529-0DA3-4D43-BD1A-94C6C9F4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895FFF-3E12-4E92-8F59-6D8F79CF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10B2E-593B-4E18-8CBF-0FA99E69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4346BF-FA1B-440F-8EFD-085ED01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E8B7-6A92-41EA-9B09-999015F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DE08C0-DA1B-49CA-A6B9-96C330A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CFFEA5-ECDD-400B-979F-892F5A79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F67BE8-8A83-44B2-9F00-A6F8D3D4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ECCE76-1591-4F5A-B042-FFD04B10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18B880-D04F-45E8-B5EE-9D2104B1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58F526-99AB-45F7-B006-A55F7CD2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17FFCE-B8A5-4BD1-997F-28918129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94F8C6-2F6C-44D7-BA0A-E5B1912F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C2716D-0E5E-452B-B291-20E9B504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56D49F-E7FD-4355-8FAA-E98BA11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8097-D478-4BAF-8C2D-50663CF4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644079-D85D-4728-A0E6-42203D33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6B6BFB-D36D-4596-86EC-BBC5A953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BD6F3F-EDB5-4B55-BFAB-F7F1D520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C128F2-A6E3-44FA-8B73-AED47DB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543C51-5593-40D9-9892-E3D45DD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C7761E-A12C-432C-B5FB-4CEC0D60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16DA97-768C-4E23-BC59-80C76478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DA173D-FEEA-4477-A790-71CFD70E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1E099B-BAB2-45F7-8B9D-2BB4CB8D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878FB1-50AE-40F2-8384-E3A8C77B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89E2-429C-4BA8-81C6-52446969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8B5DDC-606A-4BB9-932D-5C2275D7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DE39C5-5E58-464D-8450-86F46782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53C3EB-01C5-428A-B201-C21C1E49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FF8DB4-7FB0-47A2-9F01-36B4A4A1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14EDBA-F48B-4D82-952A-A017263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19FA65-4738-4916-B36E-40C879AF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9EB996-B19F-4A92-A031-092666E9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A6D8E0-A331-402E-AB65-536E825F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2BE417-CD06-444D-B0B4-B96FC122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68BCFD-720D-4D06-855F-A1BF2E60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2F6E-A2A3-43FF-9149-3605C03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3535E1-B61C-4ECE-8886-566D002A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BEB600-0D08-4EEA-988B-3E94C231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3A77EB-B874-4796-8E77-18F34D6F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BB7805-FF66-497C-9C69-ECC393B0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2159CA-9F58-48DE-98E2-9D23072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A1B432-60B6-439E-AF87-CE193C34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95FB04-1C83-429D-A993-538E8615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066C8D-3180-4AEE-B2D2-CAF8F5D9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978BCB-A6F2-44AC-848F-EC1FEAC8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4F182F-0BC4-409E-B8B1-9164799F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785-815A-4BC6-A4F1-685E6570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A0F5-96AB-4DB4-A75D-2751AE05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2DD731-C2C6-446A-87F1-57DB484D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D8EFAF-EDB4-4FE3-BCE6-0B921565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3523A8-F860-42B5-9C51-BFD45139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83948E-B6DF-4C8A-BCDB-A88AFB23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64E9F6-F2EC-441E-84C8-10C6A431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1E44F6-9332-4822-9333-6712F0BD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2AC157-9ADA-46B6-8850-45853274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6DA77B-F140-401B-9076-2BD7EC6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B77D34-85EF-48BF-932E-CF99C61B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9C7D75-F43B-4CE1-B234-A77D9A2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95E1-7309-4BAC-8B15-0611D64F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E2CEE8-A488-4B4D-934E-7F7FDC7A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84D014-310A-4F3C-89D6-F1D5E6E0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213288-0557-4687-A674-60A22FB5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319886-433B-42A0-A760-51371992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B3388A-E5F4-4982-974D-0BF2470D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32A6F1-80F0-447F-9519-9ED7875C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7CEAEB-D03C-4F74-A8C2-D3D56B6A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00697E-ECF5-4668-93FF-28CDC6B4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7453B0-EB51-4124-B118-DE138FC6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2B62A7-F6DF-4CFC-931C-7E2DD0A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34FE-1A4B-48E6-8C23-266472C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7503C4-01BA-4C45-8442-CC7F9AE7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EF80D2-CD27-4C0E-A381-38CA4B2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878414-0111-409E-8E5E-14A44A31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0FA089-6867-4C42-B7F8-D55598C2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504FC3-E4FA-4612-82A0-E3394468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4EB586-E45A-4580-AD2C-9821BC67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634B68-E1D9-4F9D-8518-6665CAA3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DA4538-8520-44A9-A4D3-1170AF9C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50D65E-BD6E-4628-AF2E-BDC6D731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5E6784-3E9D-43FE-A59F-88C410C2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ABF2-A0F8-40E3-BCD9-5F6903CB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DC98D6-23FA-4F25-A29E-DBE4532A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970363-82E5-4909-A6A1-C5F9AAC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E7B60E-3028-4C91-A1C4-8BABEF8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A3319C-ACF4-4362-A0B3-C3A1AD3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46A040-EE51-41EC-B1D9-94AA6CE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948A3F-2DFF-442E-85EA-19FB4316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DCA487-820B-474D-B38F-96AC7D11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643133-2256-4C80-9232-756AC60C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48851F-AB9D-44A3-A3A8-D89EC581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01F418-AEE5-4F5E-8594-9F212B87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4255-7F20-45A1-AA6E-DBF8213A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A61578-C189-4302-BFF2-425709BB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D0926A-150A-42FF-805E-B831F739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0C2775-B508-408A-923F-77B153E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210E5F-2A6E-4F83-A68B-CC208330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41492F-58E9-44E4-897C-8FC6031A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06C78A-20DB-4241-877B-AC5CC5C3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2A368D-85B2-4559-B408-1AD54C13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630DCC-4FDE-499C-AA55-82F2C062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E62FDA-FF82-4E94-BC14-1A3F5102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3EFB0B-C54E-4595-B7FE-DEF1B88A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BA80-3DA6-4825-9918-A5F09BF0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C80CFB-9117-4598-A6E5-28E5BC31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C4E29F-DB2A-47F1-89A5-6039422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6F12F3-F3FB-41B4-AC56-2DC96CB2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13D93A-4BFC-4A07-A25E-958315B2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85362E-DF68-434D-9F3B-AD903D0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3F1CC3-E431-49FB-B323-1BABE2F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EA7890-F96E-4FB9-9FBA-66DB4A16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3EA92F-35D4-4EFB-A6F7-10F5E427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E1BC74-B8F9-45AD-959A-966A8F2A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C79AD7-013A-42B6-9595-69B95390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D45E-AAE1-4874-8427-2277DD4B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4451CC-6A86-439B-AFC4-7F487AF7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73BB49-2FD4-410F-B61A-34A1A0A5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C8B417-96B1-4D72-A242-188B1430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1B3FFB-271D-4A29-B05C-4BC2B240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CB0E9D-EC29-4F0E-9027-797F07E2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49C6FA-F79A-4C80-B983-2F8A95B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674DE8-9B59-4B28-B0A3-09B040DB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2D8879-B4A3-4B37-80C0-C2C54107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159CBC-721C-42E5-865B-2BC2E1D7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5A62EC-9C91-412E-AE20-554D3829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37BB-2346-4AF7-8EFF-32AC0742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02167D-EA41-484F-824E-D83E8D2A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110C29-9458-489E-A0A5-F250BA29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565343-1C9D-4F61-B0EF-C5043CD3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5438-4346-4107-A2AC-71E67320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5325-9930-4B64-8DDF-96D875AB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742-7279-44E4-910C-B096D226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95E8-0D60-4C09-B50F-CD00FAB1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7C07E-75EB-4570-B1E6-F59825A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75B6-14AC-4665-A468-6765B680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0B37-A850-45EF-B8F5-9F0EC66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805A-BC4B-4258-8D46-7FF46A2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05153-CD6C-4003-806A-99185E1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9723-9140-45C8-A66C-F34A2460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DC11-82BB-4962-B889-C6550FC4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79F8-C889-4FAB-9A21-684B4EEF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772A4-45FE-492C-8BA4-581461A8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6A2-6518-49EE-8526-F3C3C924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58C0-901C-4C35-AF95-8E7CB6E5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25648-B79F-44F9-9DFE-6F32360A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B66FB-BC95-42E4-ACBD-B4072801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3AE9B-D1F5-49FF-BC77-6959EAC9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05126-89C4-4A54-9A95-E86F4BE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A5709-B8AE-4A87-8DC4-B18F900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B89AA-313D-40EA-BF58-27B1B22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5EE03-F508-40E5-8A62-31636EE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C6014-FBDC-4D2C-8907-6FEB9B52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E48A-8D06-4674-AE45-1EDCB920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FF3-9FF5-4E9D-8D90-3EB11C16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3F9F2-83DC-4722-B264-13A63ACB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DF0AB-4A7B-4BDA-8AE7-CE44E991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149E-ECBE-4E9D-9C65-68B250EF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5DE84-4176-4869-839B-013349A1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9487A-5953-4FAF-BA69-A8DE37C3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0182A-EB40-47F6-8E2C-E156F1CC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9A792-B109-43D0-83DF-590C4822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14BFC-90A9-4175-B448-BB66D0FD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7E51-7D24-4328-9EFF-A2B6A6D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07C4-1B96-46FE-B6B7-40243B8F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732-EA61-4B7A-B75B-D03999F4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00507-E4F1-46EB-96CF-22A33C43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A4640-5C75-4ACC-99A1-FE326CD9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94FEE-326F-49EA-9721-44DF029A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F614F-4DE6-4746-A63D-95A9B6A7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A672A-4DB5-4106-8A47-4B5E4A84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AC10B-AADF-4124-A232-6F95A8E0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AA0D3-2CDB-4C06-A0E5-24C80E93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99C45-F5EB-4BFA-874A-E8463CB1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4190C-7A36-457E-A2A7-40CAA52D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C06DD-7448-4867-A546-72752579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F17-CE0F-476F-ACE6-9E42175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C8AB-DFFF-4706-991F-3AD28217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E6D04-3F96-4129-A847-AC1101CC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4DA66-37FF-4D7C-89F5-F6B6C658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BDDA-0035-476D-AEAA-13AB3F5D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3A46B-5619-4B05-8EF4-E23DBC39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7AAD9-BA43-47EC-8CB9-D9D9B6D2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61711-1F7A-40DE-8568-449597AE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3A10F-1A68-469C-BBA2-8722F2AD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61DD3-435B-41E6-873E-750D3EE6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6BEDA-878E-48EC-99AC-49314B7F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392-BCE7-49AC-BD2F-CEF8607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ED775-9A1C-43F4-B515-3AC9D991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7E29-2FBC-4D69-99D4-6E1B6CAF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F46D8-42D2-4337-9DB1-830DCA5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9A61A-53AA-49A1-9163-AFD1125B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5D64-5879-4986-8179-D1C2C591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12A4E-1369-4F5B-87B3-FCBE896A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A4F4-1BCA-4572-9409-66E32C8B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0FEFC-5580-41FB-9235-66E3D905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ED023-D7D9-40E0-860A-1D730B88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C18E5-340A-4212-AA1A-D660D792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67D-1CCC-4F04-9BD1-6179F3E758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CEA-11AC-47B6-AA00-60098A6B2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3731-85A7-4079-AB0E-C757B85C5C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F733-A6EB-4ED5-A215-59765E26D2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BB27-0449-4A5D-8C38-9EEDFB82E7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1508-E998-460E-A099-6F8FCEAF8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33E1-1B03-4613-AB35-6C628C971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A245-2883-4848-8216-503458B697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4C20-7B15-4CAA-82EB-471A2D38CF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8448-8A97-4563-853B-AAF5158039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3F9B-1AA7-475B-A9F5-CF3EB49EA4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EE8D-97FD-4EEB-969C-AE348054B9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32F4-3FB6-4FF1-8807-E6721F26F7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B6D-A014-484E-B16F-609A94EAF5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84A3-4BBF-4855-A9E2-857D376275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A2B6-9789-4AF3-B94A-FFCCF1F07C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7C71-9D33-4B73-B04C-BF72F3ED0E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C969-0EA3-4C5C-BAD9-083CF48A56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6030-5E36-4148-B214-6FEBB6484E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61D4-13BD-4A7F-9BB4-88F447546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EE22-AD35-46FC-9F82-5CFFC47BE8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8BA4-6E71-4597-8BE1-DE611DD9B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A9D5-1B24-4746-AC8E-48003F7F3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2F4A-20BD-47A8-ADB6-85645DDE0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E1F8-8B1C-404F-B982-44C0D4519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DDB4-C70C-44AF-8A4F-45995100B5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21CD-20D9-47A2-8F6A-99D508603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6242-EB92-4345-A909-610F07555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782D-C3BD-483B-A54E-EE7FE252F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A14E-DEDE-452F-9704-69C1AA051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912-6901-4C84-ADAD-6782B82A17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A36A-4218-4800-BDA4-B9C8B7EB0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F3AF-F66C-4538-A937-C697D174FE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3FEB-3DD7-4F21-B83B-A969BC4BF5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15DB-9F80-4094-936D-7F87B75D4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E758-A206-41B9-AB75-3DEB5584B9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5282-FE80-4A29-AF56-34706F8DB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B3A2-8047-4739-AC93-6DA79CD10D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9BE9-6DE4-4F5E-BFB4-310F69D689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1AC-0697-4BE5-A422-7E80BAB78E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1B18-6BB2-41E6-AC37-FAF2B82012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93E8-5D98-4063-B467-434F50635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550C-F327-49CD-AFF1-F4FD5AE12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F99F-BFFE-4512-9D90-1DB5BEB135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22A9-6C9F-4894-AC7B-12B0456CBF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51BF-4C03-46D9-8801-8BCEEB6482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3299-0E26-48FE-B98D-5D49A30D08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E9E9-8A23-4331-9B86-4826935BCE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9BB-8FC8-4362-A37E-6E8BF3094D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42D3-3BEE-4A81-8E67-CFEDEB0C91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224000" y="2452680"/>
            <a:ext cx="6696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6737" descr=""/>
          <p:cNvPicPr/>
          <p:nvPr/>
        </p:nvPicPr>
        <p:blipFill>
          <a:blip r:embed="rId1"/>
          <a:stretch/>
        </p:blipFill>
        <p:spPr>
          <a:xfrm>
            <a:off x="509760" y="1138320"/>
            <a:ext cx="7991280" cy="471492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6738"/>
          <p:cNvSpPr/>
          <p:nvPr/>
        </p:nvSpPr>
        <p:spPr>
          <a:xfrm>
            <a:off x="1419120" y="4343400"/>
            <a:ext cx="61214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6739"/>
          <p:cNvSpPr/>
          <p:nvPr/>
        </p:nvSpPr>
        <p:spPr>
          <a:xfrm>
            <a:off x="1467000" y="48578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6740"/>
          <p:cNvSpPr/>
          <p:nvPr/>
        </p:nvSpPr>
        <p:spPr>
          <a:xfrm>
            <a:off x="1428840" y="541008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5713" descr=""/>
          <p:cNvPicPr/>
          <p:nvPr/>
        </p:nvPicPr>
        <p:blipFill>
          <a:blip r:embed="rId1"/>
          <a:stretch/>
        </p:blipFill>
        <p:spPr>
          <a:xfrm>
            <a:off x="762120" y="1166760"/>
            <a:ext cx="7543800" cy="467676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15714"/>
          <p:cNvSpPr/>
          <p:nvPr/>
        </p:nvSpPr>
        <p:spPr>
          <a:xfrm>
            <a:off x="1247760" y="22478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5715"/>
          <p:cNvSpPr/>
          <p:nvPr/>
        </p:nvSpPr>
        <p:spPr>
          <a:xfrm>
            <a:off x="1190520" y="27716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5716"/>
          <p:cNvSpPr/>
          <p:nvPr/>
        </p:nvSpPr>
        <p:spPr>
          <a:xfrm>
            <a:off x="1257480" y="3343320"/>
            <a:ext cx="7078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5717"/>
          <p:cNvSpPr/>
          <p:nvPr/>
        </p:nvSpPr>
        <p:spPr>
          <a:xfrm>
            <a:off x="1209600" y="3857760"/>
            <a:ext cx="7078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5718"/>
          <p:cNvSpPr/>
          <p:nvPr/>
        </p:nvSpPr>
        <p:spPr>
          <a:xfrm>
            <a:off x="1219320" y="438156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5719"/>
          <p:cNvSpPr/>
          <p:nvPr/>
        </p:nvSpPr>
        <p:spPr>
          <a:xfrm>
            <a:off x="1257480" y="4915080"/>
            <a:ext cx="707832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5720"/>
          <p:cNvSpPr/>
          <p:nvPr/>
        </p:nvSpPr>
        <p:spPr>
          <a:xfrm>
            <a:off x="1200240" y="54482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4689" descr=""/>
          <p:cNvPicPr/>
          <p:nvPr/>
        </p:nvPicPr>
        <p:blipFill>
          <a:blip r:embed="rId1"/>
          <a:stretch/>
        </p:blipFill>
        <p:spPr>
          <a:xfrm>
            <a:off x="695160" y="1376280"/>
            <a:ext cx="7562880" cy="412452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4690"/>
          <p:cNvSpPr/>
          <p:nvPr/>
        </p:nvSpPr>
        <p:spPr>
          <a:xfrm>
            <a:off x="1209600" y="1905120"/>
            <a:ext cx="7078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4691"/>
          <p:cNvSpPr/>
          <p:nvPr/>
        </p:nvSpPr>
        <p:spPr>
          <a:xfrm>
            <a:off x="1190520" y="243828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4692"/>
          <p:cNvSpPr/>
          <p:nvPr/>
        </p:nvSpPr>
        <p:spPr>
          <a:xfrm>
            <a:off x="1238400" y="298116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4693"/>
          <p:cNvSpPr/>
          <p:nvPr/>
        </p:nvSpPr>
        <p:spPr>
          <a:xfrm>
            <a:off x="1085760" y="35528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4694"/>
          <p:cNvSpPr/>
          <p:nvPr/>
        </p:nvSpPr>
        <p:spPr>
          <a:xfrm>
            <a:off x="1152360" y="404820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4695"/>
          <p:cNvSpPr/>
          <p:nvPr/>
        </p:nvSpPr>
        <p:spPr>
          <a:xfrm>
            <a:off x="1190520" y="4562640"/>
            <a:ext cx="7078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4696"/>
          <p:cNvSpPr/>
          <p:nvPr/>
        </p:nvSpPr>
        <p:spPr>
          <a:xfrm>
            <a:off x="1200240" y="511488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3665" descr=""/>
          <p:cNvPicPr/>
          <p:nvPr/>
        </p:nvPicPr>
        <p:blipFill>
          <a:blip r:embed="rId1"/>
          <a:stretch/>
        </p:blipFill>
        <p:spPr>
          <a:xfrm>
            <a:off x="905040" y="1066680"/>
            <a:ext cx="7067520" cy="1962360"/>
          </a:xfrm>
          <a:prstGeom prst="rect">
            <a:avLst/>
          </a:prstGeom>
          <a:ln w="0">
            <a:noFill/>
          </a:ln>
        </p:spPr>
      </p:pic>
      <p:pic>
        <p:nvPicPr>
          <p:cNvPr id="1483" name="图片 113666" descr=""/>
          <p:cNvPicPr/>
          <p:nvPr/>
        </p:nvPicPr>
        <p:blipFill>
          <a:blip r:embed="rId2"/>
          <a:stretch/>
        </p:blipFill>
        <p:spPr>
          <a:xfrm>
            <a:off x="928800" y="3208320"/>
            <a:ext cx="7067520" cy="247644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3667"/>
          <p:cNvSpPr/>
          <p:nvPr/>
        </p:nvSpPr>
        <p:spPr>
          <a:xfrm>
            <a:off x="905040" y="1069920"/>
            <a:ext cx="707832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3668"/>
          <p:cNvSpPr/>
          <p:nvPr/>
        </p:nvSpPr>
        <p:spPr>
          <a:xfrm>
            <a:off x="885960" y="1536840"/>
            <a:ext cx="707868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3669"/>
          <p:cNvSpPr/>
          <p:nvPr/>
        </p:nvSpPr>
        <p:spPr>
          <a:xfrm>
            <a:off x="942840" y="2098800"/>
            <a:ext cx="707868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3670"/>
          <p:cNvSpPr/>
          <p:nvPr/>
        </p:nvSpPr>
        <p:spPr>
          <a:xfrm>
            <a:off x="981000" y="262260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3671"/>
          <p:cNvSpPr/>
          <p:nvPr/>
        </p:nvSpPr>
        <p:spPr>
          <a:xfrm>
            <a:off x="942840" y="318456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3672"/>
          <p:cNvSpPr/>
          <p:nvPr/>
        </p:nvSpPr>
        <p:spPr>
          <a:xfrm>
            <a:off x="905040" y="3670200"/>
            <a:ext cx="707832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3673"/>
          <p:cNvSpPr/>
          <p:nvPr/>
        </p:nvSpPr>
        <p:spPr>
          <a:xfrm>
            <a:off x="952560" y="423216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3674"/>
          <p:cNvSpPr/>
          <p:nvPr/>
        </p:nvSpPr>
        <p:spPr>
          <a:xfrm>
            <a:off x="981000" y="471816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3675"/>
          <p:cNvSpPr/>
          <p:nvPr/>
        </p:nvSpPr>
        <p:spPr>
          <a:xfrm>
            <a:off x="981000" y="528948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12641" descr=""/>
          <p:cNvPicPr/>
          <p:nvPr/>
        </p:nvPicPr>
        <p:blipFill>
          <a:blip r:embed="rId1"/>
          <a:stretch/>
        </p:blipFill>
        <p:spPr>
          <a:xfrm>
            <a:off x="871560" y="871560"/>
            <a:ext cx="7020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111617" descr=""/>
          <p:cNvPicPr/>
          <p:nvPr/>
        </p:nvPicPr>
        <p:blipFill>
          <a:blip r:embed="rId1"/>
          <a:stretch/>
        </p:blipFill>
        <p:spPr>
          <a:xfrm>
            <a:off x="566640" y="1271520"/>
            <a:ext cx="7953480" cy="1419120"/>
          </a:xfrm>
          <a:prstGeom prst="rect">
            <a:avLst/>
          </a:prstGeom>
          <a:ln w="0">
            <a:noFill/>
          </a:ln>
        </p:spPr>
      </p:pic>
      <p:pic>
        <p:nvPicPr>
          <p:cNvPr id="1495" name="图片 111618" descr=""/>
          <p:cNvPicPr/>
          <p:nvPr/>
        </p:nvPicPr>
        <p:blipFill>
          <a:blip r:embed="rId2"/>
          <a:stretch/>
        </p:blipFill>
        <p:spPr>
          <a:xfrm>
            <a:off x="592200" y="3033720"/>
            <a:ext cx="6257880" cy="923760"/>
          </a:xfrm>
          <a:prstGeom prst="rect">
            <a:avLst/>
          </a:prstGeom>
          <a:ln w="0">
            <a:noFill/>
          </a:ln>
        </p:spPr>
      </p:pic>
      <p:pic>
        <p:nvPicPr>
          <p:cNvPr id="1496" name="图片 111619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7962840" cy="195264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11620"/>
          <p:cNvSpPr/>
          <p:nvPr/>
        </p:nvSpPr>
        <p:spPr>
          <a:xfrm>
            <a:off x="927000" y="2311560"/>
            <a:ext cx="7078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1621"/>
          <p:cNvSpPr/>
          <p:nvPr/>
        </p:nvSpPr>
        <p:spPr>
          <a:xfrm>
            <a:off x="974880" y="358776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1622"/>
          <p:cNvSpPr/>
          <p:nvPr/>
        </p:nvSpPr>
        <p:spPr>
          <a:xfrm>
            <a:off x="1041480" y="4816440"/>
            <a:ext cx="779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1623"/>
          <p:cNvSpPr/>
          <p:nvPr/>
        </p:nvSpPr>
        <p:spPr>
          <a:xfrm>
            <a:off x="1146240" y="5349960"/>
            <a:ext cx="779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1624"/>
          <p:cNvSpPr/>
          <p:nvPr/>
        </p:nvSpPr>
        <p:spPr>
          <a:xfrm>
            <a:off x="974880" y="5845320"/>
            <a:ext cx="77976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362800" cy="328608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5819760" y="2867040"/>
            <a:ext cx="7192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6858000" y="3610080"/>
            <a:ext cx="7192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5772240" y="3971880"/>
            <a:ext cx="71892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1876320" y="4343400"/>
            <a:ext cx="7192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3905" descr=""/>
          <p:cNvPicPr/>
          <p:nvPr/>
        </p:nvPicPr>
        <p:blipFill>
          <a:blip r:embed="rId1"/>
          <a:stretch/>
        </p:blipFill>
        <p:spPr>
          <a:xfrm>
            <a:off x="399960" y="1609560"/>
            <a:ext cx="8344080" cy="363888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3906"/>
          <p:cNvSpPr/>
          <p:nvPr/>
        </p:nvSpPr>
        <p:spPr>
          <a:xfrm>
            <a:off x="4572000" y="1905120"/>
            <a:ext cx="7192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07"/>
          <p:cNvSpPr/>
          <p:nvPr/>
        </p:nvSpPr>
        <p:spPr>
          <a:xfrm>
            <a:off x="1114560" y="3029040"/>
            <a:ext cx="71892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8"/>
          <p:cNvSpPr/>
          <p:nvPr/>
        </p:nvSpPr>
        <p:spPr>
          <a:xfrm>
            <a:off x="7648560" y="3381480"/>
            <a:ext cx="7192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9"/>
          <p:cNvSpPr/>
          <p:nvPr/>
        </p:nvSpPr>
        <p:spPr>
          <a:xfrm>
            <a:off x="1104840" y="4133880"/>
            <a:ext cx="7192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0"/>
          <p:cNvSpPr/>
          <p:nvPr/>
        </p:nvSpPr>
        <p:spPr>
          <a:xfrm>
            <a:off x="2523960" y="4867200"/>
            <a:ext cx="7192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395280" y="730080"/>
            <a:ext cx="8334360" cy="598176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2882"/>
          <p:cNvSpPr/>
          <p:nvPr/>
        </p:nvSpPr>
        <p:spPr>
          <a:xfrm>
            <a:off x="8229600" y="2733840"/>
            <a:ext cx="325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2883"/>
          <p:cNvSpPr/>
          <p:nvPr/>
        </p:nvSpPr>
        <p:spPr>
          <a:xfrm>
            <a:off x="8201160" y="490536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21857" descr=""/>
          <p:cNvPicPr/>
          <p:nvPr/>
        </p:nvPicPr>
        <p:blipFill>
          <a:blip r:embed="rId1"/>
          <a:stretch/>
        </p:blipFill>
        <p:spPr>
          <a:xfrm>
            <a:off x="333360" y="714240"/>
            <a:ext cx="8344080" cy="221004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121858" descr=""/>
          <p:cNvPicPr/>
          <p:nvPr/>
        </p:nvPicPr>
        <p:blipFill>
          <a:blip r:embed="rId2"/>
          <a:stretch/>
        </p:blipFill>
        <p:spPr>
          <a:xfrm>
            <a:off x="309600" y="3029040"/>
            <a:ext cx="8362800" cy="372420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1859"/>
          <p:cNvSpPr/>
          <p:nvPr/>
        </p:nvSpPr>
        <p:spPr>
          <a:xfrm>
            <a:off x="8153280" y="187632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1860"/>
          <p:cNvSpPr/>
          <p:nvPr/>
        </p:nvSpPr>
        <p:spPr>
          <a:xfrm>
            <a:off x="8115480" y="3438360"/>
            <a:ext cx="3250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61"/>
          <p:cNvSpPr/>
          <p:nvPr/>
        </p:nvSpPr>
        <p:spPr>
          <a:xfrm>
            <a:off x="8163000" y="527688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376200" y="814320"/>
            <a:ext cx="8391600" cy="534348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8191440" y="2400480"/>
            <a:ext cx="325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0835"/>
          <p:cNvSpPr/>
          <p:nvPr/>
        </p:nvSpPr>
        <p:spPr>
          <a:xfrm>
            <a:off x="8229600" y="3943440"/>
            <a:ext cx="325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9809" descr=""/>
          <p:cNvPicPr/>
          <p:nvPr/>
        </p:nvPicPr>
        <p:blipFill>
          <a:blip r:embed="rId1"/>
          <a:stretch/>
        </p:blipFill>
        <p:spPr>
          <a:xfrm>
            <a:off x="390600" y="1033560"/>
            <a:ext cx="8362800" cy="486720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9810"/>
          <p:cNvSpPr/>
          <p:nvPr/>
        </p:nvSpPr>
        <p:spPr>
          <a:xfrm>
            <a:off x="8210520" y="180972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9811"/>
          <p:cNvSpPr/>
          <p:nvPr/>
        </p:nvSpPr>
        <p:spPr>
          <a:xfrm>
            <a:off x="8258040" y="409572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8785" descr=""/>
          <p:cNvPicPr/>
          <p:nvPr/>
        </p:nvPicPr>
        <p:blipFill>
          <a:blip r:embed="rId1"/>
          <a:stretch/>
        </p:blipFill>
        <p:spPr>
          <a:xfrm>
            <a:off x="399960" y="2004840"/>
            <a:ext cx="8344080" cy="28292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8786"/>
          <p:cNvSpPr/>
          <p:nvPr/>
        </p:nvSpPr>
        <p:spPr>
          <a:xfrm>
            <a:off x="8238960" y="1990800"/>
            <a:ext cx="325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7761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010360" cy="465768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7763"/>
          <p:cNvSpPr/>
          <p:nvPr/>
        </p:nvSpPr>
        <p:spPr>
          <a:xfrm>
            <a:off x="7743960" y="3314880"/>
            <a:ext cx="4413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0:20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